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47E-7412-42CA-B421-3D3D5345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1E5-E983-448E-B532-3442CAF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9FA-6D2F-49A8-99AA-4D81FDC9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AEA-9507-4FE7-919B-1AF7B9FC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535B-1BEC-4E2E-B3F6-F340F8A5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BE1-E82A-4458-A142-6B56F71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547F-F83C-4E39-BA46-C43526B2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66A7-0029-4C6D-809E-A71D8EC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123F-B0D3-427F-B2E2-970B722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BD11-5EE2-46AA-BE3A-0917A3E7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7B7-EDAB-4A75-946D-06953D0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764-D1A0-4EA8-956B-2C80E6C6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0656-B2DF-49FA-B64C-2C9BF76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D62D-2150-49AB-86CF-2D186C8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064-5126-44AD-AEA2-05D0ECDD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1BCD-93FF-4833-93DD-459477AA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BC77-9FF3-4A09-BE45-FEEF7A92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606-47B4-48CB-BCAB-3B20EBB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411-0E99-464C-8D7B-B8885E34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004-01AC-4791-8C0E-9008D744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356-830D-4A20-9908-5DFFCAF6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CB8-E47B-42A2-9194-82F907CE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C5C-286D-46F6-AE68-2B6A364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C0A-6137-489C-A3B9-8C1759A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9963-B3AC-481D-82F0-EBF9CDFA3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A17-9C93-497B-A3BF-BD64B3413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кция 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Профессор кафедры высш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и прикладной математ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Зироян Мария Альберт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0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уммой  (разностью)  матр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кая матрица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у которой все элементы равны сумме  (разности)  соответствующих элементов матриц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а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зывается такая матрица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 у которой все элементы равны произведению соответствующего элемента матрицы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 число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979640" y="2781360"/>
          <a:ext cx="89388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81360"/>
                    <a:ext cx="8938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1) Сложение,  вычи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умножение  матрицы  на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и сложения, вычитания двух матриц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динаковой размер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 умножения матрицы на число вводятся (по определению) с помощью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элементног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выполнен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ующего действ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3492360" y="4292640"/>
          <a:ext cx="194328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292640"/>
                    <a:ext cx="1943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084720" y="4292640"/>
          <a:ext cx="187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292640"/>
                    <a:ext cx="187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8"/>
          <p:cNvGraphicFramePr/>
          <p:nvPr/>
        </p:nvGraphicFramePr>
        <p:xfrm>
          <a:off x="611280" y="5300640"/>
          <a:ext cx="331452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300640"/>
                    <a:ext cx="33145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5003640" y="5300640"/>
          <a:ext cx="2880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5300640"/>
                    <a:ext cx="2880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3851280" y="2421000"/>
          <a:ext cx="20160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016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203640" y="3429000"/>
          <a:ext cx="352908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429000"/>
                    <a:ext cx="35290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8"/>
          <p:cNvGraphicFramePr/>
          <p:nvPr/>
        </p:nvGraphicFramePr>
        <p:xfrm>
          <a:off x="3132000" y="4437000"/>
          <a:ext cx="360072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437000"/>
                    <a:ext cx="3600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1"/>
          <p:cNvSpPr/>
          <p:nvPr/>
        </p:nvSpPr>
        <p:spPr>
          <a:xfrm>
            <a:off x="375120" y="5443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1042920" y="5516640"/>
          <a:ext cx="302436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5516640"/>
                    <a:ext cx="3024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2"/>
          <p:cNvSpPr/>
          <p:nvPr/>
        </p:nvSpPr>
        <p:spPr>
          <a:xfrm>
            <a:off x="3781800" y="54439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цы одинаковой раз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2)  Умножение  матр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 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матрицу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я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у которой элемент с номером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скалярному произведению вектора, составленного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строки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вектор, составленный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столбца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7236000" y="2276640"/>
          <a:ext cx="165564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2276640"/>
                    <a:ext cx="16556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500720" y="2781360"/>
          <a:ext cx="15840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81360"/>
                    <a:ext cx="1584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8"/>
          <p:cNvGraphicFramePr/>
          <p:nvPr/>
        </p:nvGraphicFramePr>
        <p:xfrm>
          <a:off x="1476360" y="4005360"/>
          <a:ext cx="561672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4005360"/>
                    <a:ext cx="5616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0"/>
          <p:cNvSpPr/>
          <p:nvPr/>
        </p:nvSpPr>
        <p:spPr>
          <a:xfrm>
            <a:off x="8173440" y="40755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843280" y="2349360"/>
          <a:ext cx="3024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3024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2843280" y="2781360"/>
          <a:ext cx="309708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781360"/>
                    <a:ext cx="3097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2771640" y="3284640"/>
          <a:ext cx="27370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284640"/>
                    <a:ext cx="2737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0"/>
          <p:cNvSpPr/>
          <p:nvPr/>
        </p:nvSpPr>
        <p:spPr>
          <a:xfrm>
            <a:off x="5648760" y="335664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квадратных матриц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1"/>
          <p:cNvGraphicFramePr/>
          <p:nvPr/>
        </p:nvGraphicFramePr>
        <p:xfrm>
          <a:off x="2700360" y="3754440"/>
          <a:ext cx="338436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754440"/>
                    <a:ext cx="33843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3"/>
          <p:cNvGraphicFramePr/>
          <p:nvPr/>
        </p:nvGraphicFramePr>
        <p:xfrm>
          <a:off x="2700360" y="4292640"/>
          <a:ext cx="395928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4292640"/>
                    <a:ext cx="39592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5"/>
          <p:cNvSpPr/>
          <p:nvPr/>
        </p:nvSpPr>
        <p:spPr>
          <a:xfrm>
            <a:off x="963000" y="550152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, что указанные здесь действия определе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3)  Возведение  в 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операция определена только для квадратных матриц и вводится по правилу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826920" y="2924280"/>
          <a:ext cx="7813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924280"/>
                    <a:ext cx="7813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6"/>
          <p:cNvSpPr/>
          <p:nvPr/>
        </p:nvSpPr>
        <p:spPr>
          <a:xfrm>
            <a:off x="678960" y="348516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ности, справедливы равенств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5435640" y="3357720"/>
          <a:ext cx="266364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357720"/>
                    <a:ext cx="2663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9"/>
          <p:cNvGraphicFramePr/>
          <p:nvPr/>
        </p:nvGraphicFramePr>
        <p:xfrm>
          <a:off x="5435640" y="3789360"/>
          <a:ext cx="259236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789360"/>
                    <a:ext cx="2592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1"/>
          <p:cNvSpPr/>
          <p:nvPr/>
        </p:nvSpPr>
        <p:spPr>
          <a:xfrm>
            <a:off x="552960" y="4075920"/>
            <a:ext cx="63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ьн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справедлива форму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826920" y="4437000"/>
          <a:ext cx="7452000" cy="17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437000"/>
                    <a:ext cx="7452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14"/>
          <p:cNvSpPr/>
          <p:nvPr/>
        </p:nvSpPr>
        <p:spPr>
          <a:xfrm>
            <a:off x="111600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428472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рными преобраз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к матрицы называются преобразования следующих т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становка местами двух строк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где стрелки указывают на стро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вляемые  мест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мена строки суммой этой строки и некоторой другой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помога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редварительно умноженной на какое-либ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100" spc="-1" strike="noStrike">
                <a:solidFill>
                  <a:srgbClr val="097791"/>
                </a:solidFill>
                <a:latin typeface="Arial"/>
              </a:rPr>
              <a:t>α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</a:t>
            </a:r>
            <a:r>
              <a:rPr b="0" i="1" lang="el-GR" sz="32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 где стрелка  указывает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яемую стро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851280" y="306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 flipH="1">
            <a:off x="3851280" y="3573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28472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 flipH="1">
            <a:off x="3564000" y="573408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995640" y="53737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11280" y="591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ител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вят рядом со вспомогательной стро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2485800" y="5642640"/>
            <a:ext cx="3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ножение строки на ненулевое число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условное обозначение: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ставится рядом с изменяемой строк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З а м е ч а н и е 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Аналогично вводятся элементарные преобразования столбцов мат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Опорным элементом стр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ы называется первый слева ненулевой  элемент этой строки. Если строка нулевая, то опорного элемента у нее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а называется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ступенча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(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имеющей ступенчатый вид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ыполнены следующие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акая-то строка матрицы нулевая, то все последующи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улевы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ый элемент в каждой последующей строке располо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ее, чем в предыду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Говорят, что матрица имеет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вид Гау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: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является ступенча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порные элементы равны едини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опорными элементами стоят только н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Т е о р е м а 1</a:t>
            </a:r>
            <a:r>
              <a:rPr b="1" i="1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мощью элементарных преобразований строк первого и второго типов.  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аусса с помощью элементарных преобразований строк первого – третьего тип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7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построенные по матрице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 помощью элементарных преобразований, называются, соответственно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упенчатым видом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идом Гаусса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4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упенчатый вид у матрицы и ее вид Гаусса не единственен.  Наборы базисных строк и базисных столбцов матрицы также не являются инвариантами этой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97791"/>
                </a:solidFill>
                <a:latin typeface="comic"/>
              </a:rPr>
              <a:t>М А Т Р И Ц Ы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50021"/>
                </a:solidFill>
                <a:latin typeface="Arial"/>
              </a:rPr>
              <a:t>Матрица, операция над матрицами. Приведение матрицы к виду Гаусса. Ранг матриц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324000" y="620640"/>
          <a:ext cx="20160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20160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76360" y="2421000"/>
          <a:ext cx="10476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421000"/>
                    <a:ext cx="10476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308720" y="2060640"/>
          <a:ext cx="13939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2060640"/>
                    <a:ext cx="13939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Line 10"/>
          <p:cNvSpPr/>
          <p:nvPr/>
        </p:nvSpPr>
        <p:spPr>
          <a:xfrm>
            <a:off x="7451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028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802800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4. РАНГ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Рангом матрицы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число ненулевых строк в ступенчатом виде этой матрицы.   Обозначение:  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5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нг матрицы не меняется  при применении к матрице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элементарных преобразований, то есть не зависит от способа приведения матрицы к ступенчатому в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6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праведливы неравенства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987640" y="51253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7791"/>
                </a:solidFill>
                <a:latin typeface="Arial"/>
              </a:rPr>
              <a:t>min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840" y="1999800"/>
            <a:ext cx="871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ить размерность ма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2700360" y="2421000"/>
          <a:ext cx="331164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21000"/>
                    <a:ext cx="33116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7"/>
          <p:cNvSpPr/>
          <p:nvPr/>
        </p:nvSpPr>
        <p:spPr>
          <a:xfrm>
            <a:off x="687240" y="407268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казать ее элемен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6"/>
          <p:cNvGraphicFramePr/>
          <p:nvPr/>
        </p:nvGraphicFramePr>
        <p:xfrm>
          <a:off x="3913200" y="3929040"/>
          <a:ext cx="19447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3200" y="3929040"/>
                    <a:ext cx="1944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9"/>
          <p:cNvSpPr/>
          <p:nvPr/>
        </p:nvSpPr>
        <p:spPr>
          <a:xfrm>
            <a:off x="395280" y="4368240"/>
            <a:ext cx="82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 е ш е н и е.   Матрица  </a:t>
            </a:r>
            <a:r>
              <a:rPr b="0" i="1" lang="ru-RU" sz="2800" spc="-1" strike="noStrike">
                <a:solidFill>
                  <a:srgbClr val="5c0f8b"/>
                </a:solidFill>
                <a:latin typeface="Arial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 три строки и четыре столбца, то ес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340000" y="4941720"/>
          <a:ext cx="187164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941720"/>
                    <a:ext cx="18716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0"/>
          <p:cNvSpPr/>
          <p:nvPr/>
        </p:nvSpPr>
        <p:spPr>
          <a:xfrm>
            <a:off x="2657520" y="35442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1"/>
          <p:cNvGraphicFramePr/>
          <p:nvPr/>
        </p:nvGraphicFramePr>
        <p:xfrm>
          <a:off x="2340000" y="5486400"/>
          <a:ext cx="424800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486400"/>
                    <a:ext cx="4248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2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ить матрицу  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5c0f8b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 3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979640" y="2232000"/>
          <a:ext cx="540072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32000"/>
                    <a:ext cx="54007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6"/>
          <p:cNvSpPr/>
          <p:nvPr/>
        </p:nvSpPr>
        <p:spPr>
          <a:xfrm>
            <a:off x="1272960" y="321228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Зная матрицы 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7"/>
          <p:cNvGraphicFramePr/>
          <p:nvPr/>
        </p:nvGraphicFramePr>
        <p:xfrm>
          <a:off x="1476360" y="3573360"/>
          <a:ext cx="6335640" cy="10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573360"/>
                    <a:ext cx="6335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9"/>
          <p:cNvGraphicFramePr/>
          <p:nvPr/>
        </p:nvGraphicFramePr>
        <p:xfrm>
          <a:off x="324000" y="4653000"/>
          <a:ext cx="8353440" cy="102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653000"/>
                    <a:ext cx="83534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>
            <a:off x="1979640" y="5157720"/>
            <a:ext cx="3600360" cy="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298764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428472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3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а) Первая из перемножаемых матриц имеет размерность 2х3,  а вторая матрица – размерность 2х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исло столбцов первой матрицы не равно числу строк второй, то данные две матрицы перемножи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4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5292720" y="1700280"/>
          <a:ext cx="273528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7352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3203640" y="4508640"/>
          <a:ext cx="3024000" cy="17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08640"/>
                    <a:ext cx="3024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 (1), находим матрицу размер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5</a:t>
            </a:r>
            <a:r>
              <a:rPr b="0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4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5c0f8b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971640" y="2349360"/>
          <a:ext cx="69832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69832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1547640" y="4508640"/>
          <a:ext cx="2089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508640"/>
                    <a:ext cx="2089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5003640" y="4365720"/>
          <a:ext cx="216072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4365720"/>
                    <a:ext cx="2160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8"/>
          <p:cNvSpPr/>
          <p:nvPr/>
        </p:nvSpPr>
        <p:spPr>
          <a:xfrm>
            <a:off x="1187280" y="494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988080" y="494100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696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   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цы являются квадратными, то вычисляем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4572000" y="1844640"/>
          <a:ext cx="15825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158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1619280" y="2708280"/>
          <a:ext cx="59770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708280"/>
                    <a:ext cx="5977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8"/>
          <p:cNvSpPr/>
          <p:nvPr/>
        </p:nvSpPr>
        <p:spPr>
          <a:xfrm>
            <a:off x="310320" y="4149000"/>
            <a:ext cx="88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Учитывая, что рассматриваемая матрица является диагональной, получа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9"/>
          <p:cNvGraphicFramePr/>
          <p:nvPr/>
        </p:nvGraphicFramePr>
        <p:xfrm>
          <a:off x="684360" y="4437000"/>
          <a:ext cx="7488000" cy="19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437000"/>
                    <a:ext cx="7488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c0f8b"/>
                </a:solidFill>
                <a:uFillTx/>
                <a:latin typeface="Arial"/>
              </a:rPr>
              <a:t>П р и м е р 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ь ступенчатый вид  матриц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6"/>
          <p:cNvGraphicFramePr/>
          <p:nvPr/>
        </p:nvGraphicFramePr>
        <p:xfrm>
          <a:off x="6300720" y="1773360"/>
          <a:ext cx="25210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210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8"/>
          <p:cNvSpPr/>
          <p:nvPr/>
        </p:nvSpPr>
        <p:spPr>
          <a:xfrm>
            <a:off x="971640" y="32839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базисные строки и столбцы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30720" y="3644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539640" y="4005360"/>
          <a:ext cx="3384720" cy="21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05360"/>
                    <a:ext cx="338472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3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2"/>
          <p:cNvGraphicFramePr/>
          <p:nvPr/>
        </p:nvGraphicFramePr>
        <p:xfrm>
          <a:off x="4643280" y="3933720"/>
          <a:ext cx="2519640" cy="215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933720"/>
                    <a:ext cx="25196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4"/>
          <p:cNvGraphicFramePr/>
          <p:nvPr/>
        </p:nvGraphicFramePr>
        <p:xfrm>
          <a:off x="4067280" y="4365720"/>
          <a:ext cx="360360" cy="26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365720"/>
                    <a:ext cx="36036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16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>
            <a:off x="284328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356400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H="1">
            <a:off x="2842920" y="5734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651672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 flipH="1">
            <a:off x="6300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673272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6227640" y="566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24"/>
          <p:cNvGraphicFramePr/>
          <p:nvPr/>
        </p:nvGraphicFramePr>
        <p:xfrm>
          <a:off x="6804000" y="4869000"/>
          <a:ext cx="47160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4000" y="4869000"/>
                    <a:ext cx="4716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755640" y="2637000"/>
          <a:ext cx="7561440" cy="20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756144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7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вести к виду Гаусса матр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300720" y="1773360"/>
          <a:ext cx="251928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192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6"/>
          <p:cNvSpPr/>
          <p:nvPr/>
        </p:nvSpPr>
        <p:spPr>
          <a:xfrm>
            <a:off x="487080" y="385992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 Выполним элементарные преобразования строк матр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7"/>
          <p:cNvGraphicFramePr/>
          <p:nvPr/>
        </p:nvGraphicFramePr>
        <p:xfrm>
          <a:off x="1042920" y="4149720"/>
          <a:ext cx="7416720" cy="22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149720"/>
                    <a:ext cx="741672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Line 9"/>
          <p:cNvSpPr/>
          <p:nvPr/>
        </p:nvSpPr>
        <p:spPr>
          <a:xfrm>
            <a:off x="2556000" y="4437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2268000" y="4437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2268000" y="522936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4211640" y="5589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>
            <a:off x="4211640" y="602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4500720" y="458136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4932360" y="458136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468360" y="1844640"/>
          <a:ext cx="84247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4247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7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539640" y="3933720"/>
          <a:ext cx="8209080" cy="22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933720"/>
                    <a:ext cx="82090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8"/>
          <p:cNvSpPr/>
          <p:nvPr/>
        </p:nvSpPr>
        <p:spPr>
          <a:xfrm>
            <a:off x="2843280" y="2492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 flipH="1">
            <a:off x="255600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2556000" y="2492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435640" y="263700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 flipH="1">
            <a:off x="5148360" y="29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H="1">
            <a:off x="514836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5219280" y="328464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5786280" y="2643120"/>
            <a:ext cx="0" cy="647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 flipH="1">
            <a:off x="2410920" y="5589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H="1">
            <a:off x="2410920" y="602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987640" y="53006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5148360" y="465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5796000" y="4221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4859280" y="4653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H="1">
            <a:off x="4859280" y="422100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H="1">
            <a:off x="7812000" y="422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8101080" y="4221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рицей размер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прямоугольна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щая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 и 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цов. Числа, составляющие матрицу, называются ее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х обозначают: </a:t>
            </a:r>
            <a:r>
              <a:rPr b="0" i="1" lang="en-US" sz="2800" spc="-1" strike="noStrike">
                <a:solidFill>
                  <a:srgbClr val="09779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роки матрицы,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олбца матрицы, в которых расположен данный элемент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3132000" y="2637000"/>
          <a:ext cx="3024360" cy="16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3024360" cy="16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2268360" y="1773360"/>
          <a:ext cx="22100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22100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627280" y="3789360"/>
          <a:ext cx="3457440" cy="20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789360"/>
                    <a:ext cx="34574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2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957600" y="45759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 т в е 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91636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3348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34800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3851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3851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у обозна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матрицы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совпадают поэлемен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улев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означают: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все ее элементы равны нулю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2124000" y="2781360"/>
          <a:ext cx="542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542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4500720" y="2708280"/>
          <a:ext cx="187164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08280"/>
                    <a:ext cx="18716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66400" y="285156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</a:t>
            </a:r>
            <a:r>
              <a:rPr b="0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-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рок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атрица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-столбцом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=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то матрица 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 матрицей 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Ее элементы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; числа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-1,2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771640" y="2997360"/>
          <a:ext cx="82548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97360"/>
                    <a:ext cx="8254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тности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втор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две строки и два столбца.  Числа </a:t>
            </a:r>
            <a:r>
              <a:rPr b="0" i="1" lang="en-US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ы, где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а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второстепенную)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3059280" y="2565360"/>
          <a:ext cx="2592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2592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третье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три строки и три столбца.  Числа </a:t>
            </a:r>
            <a:r>
              <a:rPr b="0" i="1" lang="en-US" sz="29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,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, где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;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3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 (второстепенную)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916360" y="2349360"/>
          <a:ext cx="302400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30240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90512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6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элементы, стоящ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лавной диагонали, 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ерхнетреуго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ижнетреуголь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ее элементы, расположенные ниже  (выше)  главной диагонали,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8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единич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обозначают: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она диагональная и все элементы главной диагонали равны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9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, полученная из квадратной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заменой всех строк соответствующими (по номеру) столбцами,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транспонирова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матрице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обозначается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97791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6:16:47Z</dcterms:created>
  <dc:creator>к.502</dc:creator>
  <dc:description/>
  <dc:language>en-US</dc:language>
  <cp:lastModifiedBy>квм</cp:lastModifiedBy>
  <dcterms:modified xsi:type="dcterms:W3CDTF">2014-09-30T10:05:38Z</dcterms:modified>
  <cp:revision>17</cp:revision>
  <dc:subject/>
  <dc:title>М А Т Р И Ц Ы</dc:title>
</cp:coreProperties>
</file>